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295-695B-4100-947F-435FDEA7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0C6-17EF-4102-A471-644C7D4C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FB8-AA45-4870-8581-FB09FA2B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50A-849D-4352-92D3-5BE60EBB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6E2-602B-408C-8EEF-0EEF2F1A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DF9-8959-498F-B376-D0715885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817-AF6E-499C-8E33-6E311CD0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810-9524-4803-ABA8-621AF3D8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21A-3846-42F2-BA52-4BEB1430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DC2-E370-496E-9690-9995407C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FCB-9F7B-40C9-B255-1EE30C0B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B49-900B-4396-B9E6-2DAB2D89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3732-91E7-4EAD-B2BA-B3441E1F3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685800"/>
            <a:ext cx="54100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Articles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of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Confederation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&amp; Plan for a New Government: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1781-1789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000160" cy="197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The Articles of Confederation"/>
          <p:cNvPicPr/>
          <p:nvPr/>
        </p:nvPicPr>
        <p:blipFill>
          <a:blip r:embed="rId2"/>
          <a:stretch/>
        </p:blipFill>
        <p:spPr>
          <a:xfrm>
            <a:off x="1371600" y="685800"/>
            <a:ext cx="14018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52480" y="396720"/>
            <a:ext cx="716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Times New Roman"/>
              </a:rPr>
              <a:t>The Road to Philadelph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7924680" cy="59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apolis Convention (178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representatives from 5 stat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NY, NJ, PA, DE, V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osed GO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 barriers that limited trade and commerce between the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5 attended --- Call a meeting in Philadelph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ys Rebe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Shays, Western MA – shut down debtors courts and stopped property a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farmers angered by crushing debts and tax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 militia put down rebellion with help of recruits the Governor had asked to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09680" y="50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6"/>
                </a:solidFill>
                <a:latin typeface="Times New Roman"/>
              </a:rPr>
              <a:t>Shays’ Rebellion: 1786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1905120"/>
            <a:ext cx="55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re could be no stronger evidence of the want of energy in our governments than these disord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4921200"/>
            <a:ext cx="640080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2e00"/>
                </a:solidFill>
                <a:latin typeface="Hot Pizza"/>
              </a:rPr>
              <a:t>-- George</a:t>
            </a:r>
            <a:r>
              <a:rPr b="1" lang="en-US" sz="3600" spc="-1" strike="noStrike">
                <a:solidFill>
                  <a:srgbClr val="f02e00"/>
                </a:solidFill>
                <a:latin typeface="Tw Cen MT Condensed Extra Bold"/>
              </a:rPr>
              <a:t> </a:t>
            </a:r>
            <a:r>
              <a:rPr b="1" lang="en-US" sz="3600" spc="-1" strike="noStrike">
                <a:solidFill>
                  <a:srgbClr val="f02e00"/>
                </a:solidFill>
                <a:latin typeface="Times New Roman"/>
              </a:rPr>
              <a:t>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2e00"/>
                </a:solidFill>
                <a:latin typeface="Times New Roman"/>
              </a:rPr>
              <a:t>- Raising doubts about the central gov’ts ability to deal with civil un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stitutional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31840" y="1600200"/>
            <a:ext cx="687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84280" y="217440"/>
            <a:ext cx="639936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257040"/>
            <a:ext cx="7162560" cy="675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19320" y="101520"/>
            <a:ext cx="7010280" cy="66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249120"/>
            <a:ext cx="693396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15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0640" y="1957320"/>
            <a:ext cx="5562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52760" y="1719360"/>
            <a:ext cx="4038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28804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 Principles of 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ion of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 Sovereig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icial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5257800"/>
            <a:ext cx="66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ake sure you can define these on you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0"/>
            <a:ext cx="70102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6"/>
                </a:solidFill>
                <a:latin typeface="Times New Roman"/>
              </a:rPr>
              <a:t>The Articles of Confederation – our 1</a:t>
            </a:r>
            <a:r>
              <a:rPr b="1" lang="en-US" sz="3800" spc="-1" strike="noStrike" baseline="30000">
                <a:solidFill>
                  <a:srgbClr val="000096"/>
                </a:solidFill>
                <a:latin typeface="Times New Roman"/>
              </a:rPr>
              <a:t>st</a:t>
            </a:r>
            <a:r>
              <a:rPr b="1" lang="en-US" sz="3800" spc="-1" strike="noStrike">
                <a:solidFill>
                  <a:srgbClr val="000096"/>
                </a:solidFill>
                <a:latin typeface="Times New Roman"/>
              </a:rPr>
              <a:t> Constit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143000"/>
            <a:ext cx="784872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77 adopted, not ratified until 1781 (all 13 states)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hat was the hold up?  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cameral Congress – 9 out of 13 to pass a law, 13 out of 13 to am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resentatives frequently ab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gress could declare war, no authority to tax or raise arm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ld borrow and coin money, conduct foreign affairs, set Indian policy, settle disputes between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executive or judicial branches, no federal cou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ting rules varied from state t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05120" y="228600"/>
            <a:ext cx="7010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6"/>
                </a:solidFill>
                <a:latin typeface="Times New Roman"/>
              </a:rPr>
              <a:t>State Constitu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050840"/>
            <a:ext cx="82296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ublicanism and Natural Righ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ost had strong governors with veto pow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ost had bicameral legislatur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ome had property required for voting, while others gave universal white male suffr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omen’s roles still restricted, but new idea of Republican Motherhood and edu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ost had bills of righ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ny had a continuation of state-established religions while others dis-established religion. </a:t>
            </a:r>
            <a:r>
              <a:rPr b="1" lang="en-US" sz="2500" spc="-1" strike="noStrike">
                <a:solidFill>
                  <a:srgbClr val="cc3300"/>
                </a:solidFill>
                <a:latin typeface="Times New Roman"/>
              </a:rPr>
              <a:t>Which state was first to forbid state established religion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iticisms of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vote for each state, regardless of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gress was powerless, no real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not tax, states avoided paying share of the national debt ---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not regulate foreign, interstate commerce --- Inexpensive goods from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executive branch to enforce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judicial branch to interpret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d a “firm league of friendship,” not a unified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5120" y="380880"/>
            <a:ext cx="7010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Times New Roman"/>
              </a:rPr>
              <a:t>State Claims to Western Lan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8077320" cy="50101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05120" y="457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6"/>
                </a:solidFill>
                <a:latin typeface="Times New Roman"/>
              </a:rPr>
              <a:t>Land Ordinance of 17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5876" t="0" r="4082" b="0"/>
          <a:stretch/>
        </p:blipFill>
        <p:spPr>
          <a:xfrm>
            <a:off x="380880" y="1143000"/>
            <a:ext cx="6553440" cy="48909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122480" y="613584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o regulate the distribution of western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76520" y="152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6"/>
                </a:solidFill>
                <a:latin typeface="Times New Roman"/>
              </a:rPr>
              <a:t>Northwest Ordinance of 17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733920" y="914400"/>
            <a:ext cx="2819160" cy="2228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3197160"/>
            <a:ext cx="8534160" cy="28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ne of the major accomplishments of the Confederation Congres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hood achieved in three st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39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Congress appointed 3 judges &amp; a governor to govern the terri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39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When population reached 5,000 adult 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39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owner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ect territorial legisl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39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When population reached 60,000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ect delegates  to a state constitutional conv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09680" y="228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6"/>
                </a:solidFill>
                <a:latin typeface="Times New Roman"/>
              </a:rPr>
              <a:t>The United States in 17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6400800" cy="56768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2:57:42Z</dcterms:created>
  <dc:creator>udsd</dc:creator>
  <dc:description/>
  <dc:language>en-US</dc:language>
  <cp:lastModifiedBy>udsd</cp:lastModifiedBy>
  <dcterms:modified xsi:type="dcterms:W3CDTF">2010-01-11T16:09:28Z</dcterms:modified>
  <cp:revision>18</cp:revision>
  <dc:subject/>
  <dc:title>Slide 1</dc:title>
</cp:coreProperties>
</file>